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1D6-41FF-40C5-82B7-B0FE00AE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552-5111-4F6E-9ADC-6329158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CA4-F05E-4BF1-AE5E-66362116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BD4-98DF-4D0B-8984-219BC37F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391-E314-4CC1-90CD-DB8EEED5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3BA-08C8-4BFE-87D4-87CCE3E1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9D8-969F-4F5D-A02C-C6357C17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E88-9654-4840-8E67-A93F4780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2C3-72C0-4FBF-AB93-103E63C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38E-A551-41D7-8C05-3B8D664D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693-39CB-4F1B-8DD5-6F8A1E9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FE0-ABD8-4708-B6F8-266B03A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0670-5C26-47F5-BA03-5F82860AF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45.xml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187280" y="90792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зекуто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новник, ведающий хозяйственными делами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орневильские колокола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еретта французского композитора Р.-Ж.-Л.  Планкета. Полицмейсте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альник городской полиции в крупных городах царской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йный советник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гласно «Табели о рангах», введённой Петр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722 г., чин, равный генерал-лейтенанту и вице-адмира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онфузитьс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ут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атский генер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чин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класса (тайный советник или действительный статский советни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аше-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сечённое в устной скороговорке обращение «ваше превосходительств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цмунди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ниформа статских (гражданских) чинов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сител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ловек, явившийся к должностному  лицу с просьбой, по де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Аркадия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вание музыкального теа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ихнул-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ица «с» возникла в результате сокращения слова «сударь»; выражение большого почт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партамент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торные, роскошно обставленные внутренние помещения, обычно жил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процесс постепенного непрерывного количественного изменения, подготавливающий качественный изменения; вообще развитие (процесс закономерного изменения, перехода из одного состояния в другое, более совершенное, от низшего к высшем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760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22480" y="1627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6" descr="bscap002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scap004"/>
          <p:cNvPicPr/>
          <p:nvPr/>
        </p:nvPicPr>
        <p:blipFill>
          <a:blip r:embed="rId2"/>
          <a:stretch/>
        </p:blipFill>
        <p:spPr>
          <a:xfrm>
            <a:off x="4932360" y="476280"/>
            <a:ext cx="374328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74328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Че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короткого рассказа ( всего около 700 слов)  позволил  создать мозаичную картину современного мира. Персонажи Чехова образуют пеструю толпу, это люди разных судеб и разных профессий, их занимают различные проблемы– от мелких бытовых забот до серьезных философских вопросов. И жизнь каждого героя– особая, отдельная черточка русской жизни, в сумме же эти черты обозначают все глобальные проблемы России конца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Чехов, познавая мир, его людей, торопился рассказать обо всём нам, своим читателям. В своих коротеньких рассказах он, как врач, пытается излечить людей от таких недугов, как пошлость, угодничество, чинопочитание, невежество, ограниченность кругоз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читал: «Тогда человек станет лучше, когда вы покажете ему, каков он есть». Из множества эпизодов Чехов выбирает такие, в которых раскрываются характеры действующих лиц. В юмористических рассказах такой характеристикой является поведение героя в нелепой ситуации. А ситуации предельно просты, например, заболели зубы, проиграл деньги, случайная встреча друзей детства или... чихнул в теат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Мы все вместе улыбнем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дмигнем слегка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право, влево поверне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вороты влево- 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кивнем затем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наклоны влево-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 идеи побед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верх взметнулись наши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днимаем руки вверх- 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руз забот с себя стрях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продолжим путь на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Инсер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133720"/>
          <a:ext cx="8496360" cy="345600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2125800"/>
                <a:gridCol w="2986200"/>
              </a:tblGrid>
              <a:tr h="94932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+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!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-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?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л(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мал(а) иначе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онял(а),есть 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образа «маленького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42920" y="1552680"/>
            <a:ext cx="69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распределили героев на эволюционной ступен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611280" y="3141720"/>
            <a:ext cx="1800000" cy="647640"/>
            <a:chOff x="611280" y="3141720"/>
            <a:chExt cx="1800000" cy="647640"/>
          </a:xfrm>
        </p:grpSpPr>
        <p:sp>
          <p:nvSpPr>
            <p:cNvPr id="85" name="Rectangle 12"/>
            <p:cNvSpPr/>
            <p:nvPr/>
          </p:nvSpPr>
          <p:spPr>
            <a:xfrm>
              <a:off x="611280" y="3141720"/>
              <a:ext cx="12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753840" y="314172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амсон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Выр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AutoShape 16"/>
          <p:cNvSpPr/>
          <p:nvPr/>
        </p:nvSpPr>
        <p:spPr>
          <a:xfrm rot="5400000">
            <a:off x="2158920" y="2962080"/>
            <a:ext cx="649440" cy="1151280"/>
          </a:xfrm>
          <a:custGeom>
            <a:avLst/>
            <a:gdLst>
              <a:gd name="textAreaLeft" fmla="*/ 373680 w 649440"/>
              <a:gd name="textAreaRight" fmla="*/ 570240 w 649440"/>
              <a:gd name="textAreaTop" fmla="*/ 182880 h 1151280"/>
              <a:gd name="textAreaBottom" fmla="*/ 46476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3743280" y="3537000"/>
            <a:ext cx="649440" cy="1296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05920 h 1296720"/>
              <a:gd name="textAreaBottom" fmla="*/ 52380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3635280" y="4508640"/>
            <a:ext cx="1873080" cy="691560"/>
            <a:chOff x="3635280" y="4508640"/>
            <a:chExt cx="1873080" cy="691560"/>
          </a:xfrm>
        </p:grpSpPr>
        <p:sp>
          <p:nvSpPr>
            <p:cNvPr id="90" name="Rectangle 23"/>
            <p:cNvSpPr/>
            <p:nvPr/>
          </p:nvSpPr>
          <p:spPr>
            <a:xfrm>
              <a:off x="3635280" y="4508640"/>
              <a:ext cx="1347840" cy="69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3783600" y="450864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Акакий Акакиеви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AutoShape 25"/>
          <p:cNvSpPr/>
          <p:nvPr/>
        </p:nvSpPr>
        <p:spPr>
          <a:xfrm rot="5400000">
            <a:off x="5363280" y="4148640"/>
            <a:ext cx="649080" cy="1368720"/>
          </a:xfrm>
          <a:custGeom>
            <a:avLst/>
            <a:gdLst>
              <a:gd name="textAreaLeft" fmla="*/ 373320 w 649080"/>
              <a:gd name="textAreaRight" fmla="*/ 569880 w 64908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5219640" y="5157720"/>
            <a:ext cx="1873080" cy="691920"/>
            <a:chOff x="5219640" y="5157720"/>
            <a:chExt cx="1873080" cy="691920"/>
          </a:xfrm>
        </p:grpSpPr>
        <p:sp>
          <p:nvSpPr>
            <p:cNvPr id="94" name="Rectangle 27"/>
            <p:cNvSpPr/>
            <p:nvPr/>
          </p:nvSpPr>
          <p:spPr>
            <a:xfrm>
              <a:off x="5219640" y="5157720"/>
              <a:ext cx="1347840" cy="69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5367960" y="51577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Капитан Копейк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AutoShape 29"/>
          <p:cNvSpPr/>
          <p:nvPr/>
        </p:nvSpPr>
        <p:spPr>
          <a:xfrm rot="5400000">
            <a:off x="6947640" y="4798080"/>
            <a:ext cx="649440" cy="1368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6804000" y="5805360"/>
            <a:ext cx="1942920" cy="433440"/>
            <a:chOff x="6804000" y="5805360"/>
            <a:chExt cx="1942920" cy="433440"/>
          </a:xfrm>
        </p:grpSpPr>
        <p:sp>
          <p:nvSpPr>
            <p:cNvPr id="98" name="Rectangle 31"/>
            <p:cNvSpPr/>
            <p:nvPr/>
          </p:nvSpPr>
          <p:spPr>
            <a:xfrm>
              <a:off x="6804000" y="5805360"/>
              <a:ext cx="13982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6957720" y="580536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Червя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84400"/>
            <a:ext cx="475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ушкина, Гоголя бунтует, отстаивает свои права: Самсон Вырин мнёт и бросает бумажки, которые даёт ему Минский. Правда, потом опомнился, вернулся, но их не оказалось уже, тем не менее первоначально это был бунт. Евгений из «Медного всадника» грозит статуе Петра Первого:«Ужо тебе!», Акакий Акакиевич Башмачкин идёт с просьбой к значительному лицу, потом в фантастическом финале всё-таки постоял за себя, про капитана Копейкина рассказывают, будто он стал главарём шайки. В общем, все борются с несправедливостью. А герои Чехова добровольно на себя надевают ярмо раба. Можно ли представить Червякова протестующим? Да и зачем протестоват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рисунок1"/>
          <p:cNvPicPr/>
          <p:nvPr/>
        </p:nvPicPr>
        <p:blipFill>
          <a:blip r:embed="rId1"/>
          <a:stretch/>
        </p:blipFill>
        <p:spPr>
          <a:xfrm>
            <a:off x="6732720" y="3284640"/>
            <a:ext cx="2127240" cy="276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ushkin-2"/>
          <p:cNvPicPr/>
          <p:nvPr/>
        </p:nvPicPr>
        <p:blipFill>
          <a:blip r:embed="rId2"/>
          <a:stretch/>
        </p:blipFill>
        <p:spPr>
          <a:xfrm>
            <a:off x="5076720" y="112536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стремился писать так, чтобы читатели и зрители не просто переживали, страдали и плакали вместе с его героями, но чтобы это сопереживание наталкивало их мысль: как же надо жить? Что сделать, чтобы жизнь стала и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Пап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kf2E"/>
          <p:cNvPicPr/>
          <p:nvPr/>
        </p:nvPicPr>
        <p:blipFill>
          <a:blip r:embed="rId1"/>
          <a:stretch/>
        </p:blipFill>
        <p:spPr>
          <a:xfrm>
            <a:off x="4572000" y="1268280"/>
            <a:ext cx="421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общество, в котором главное - чин, иметь будущее? Поделитесь своими мыслями и впечатлениями. Закончите предло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3610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Такое общество может иметь будуще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т, такое общество не может иметь будущего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ygvfysvgjds"/>
          <p:cNvPicPr/>
          <p:nvPr/>
        </p:nvPicPr>
        <p:blipFill>
          <a:blip r:embed="rId1"/>
          <a:stretch/>
        </p:blipFill>
        <p:spPr>
          <a:xfrm>
            <a:off x="5589720" y="1844640"/>
            <a:ext cx="32176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18900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97040" y="1471680"/>
            <a:ext cx="799308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чинение- миниатюра  на одну из т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  я борюсь с «маленьким  человеком» в себ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Что нужно делать, чтобы не остаться  «маленьким человеком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браз современного «маленького челове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8"/>
          <p:cNvGrpSpPr/>
          <p:nvPr/>
        </p:nvGrpSpPr>
        <p:grpSpPr>
          <a:xfrm>
            <a:off x="468360" y="351000"/>
            <a:ext cx="8156520" cy="4301640"/>
            <a:chOff x="468360" y="351000"/>
            <a:chExt cx="8156520" cy="4301640"/>
          </a:xfrm>
        </p:grpSpPr>
        <p:sp>
          <p:nvSpPr>
            <p:cNvPr id="43" name="Rectangle 4"/>
            <p:cNvSpPr/>
            <p:nvPr/>
          </p:nvSpPr>
          <p:spPr>
            <a:xfrm>
              <a:off x="900360" y="351000"/>
              <a:ext cx="71974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он Павлович Чехов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60 – 1904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4" name="Рисунок 0" descr="000576.jpg"/>
            <p:cNvPicPr/>
            <p:nvPr/>
          </p:nvPicPr>
          <p:blipFill>
            <a:blip r:embed="rId1"/>
            <a:stretch/>
          </p:blipFill>
          <p:spPr>
            <a:xfrm>
              <a:off x="468360" y="1483560"/>
              <a:ext cx="2303640" cy="31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4284720" y="3780720"/>
              <a:ext cx="4340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8" descr="C:\Users\777\Desktop\открытый урок\images.jpg"/>
          <p:cNvPicPr/>
          <p:nvPr/>
        </p:nvPicPr>
        <p:blipFill>
          <a:blip r:embed="rId2"/>
          <a:stretch/>
        </p:blipFill>
        <p:spPr>
          <a:xfrm>
            <a:off x="2843280" y="1719360"/>
            <a:ext cx="3529080" cy="44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777\Desktop\открытый урок\Без названия.jpg"/>
          <p:cNvPicPr/>
          <p:nvPr/>
        </p:nvPicPr>
        <p:blipFill>
          <a:blip r:embed="rId3"/>
          <a:stretch/>
        </p:blipFill>
        <p:spPr>
          <a:xfrm>
            <a:off x="6454800" y="1484280"/>
            <a:ext cx="2314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84720" y="178920"/>
            <a:ext cx="10191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kf1A"/>
          <p:cNvPicPr/>
          <p:nvPr/>
        </p:nvPicPr>
        <p:blipFill>
          <a:blip r:embed="rId1"/>
          <a:stretch/>
        </p:blipFill>
        <p:spPr>
          <a:xfrm>
            <a:off x="2050920" y="0"/>
            <a:ext cx="505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kf15"/>
          <p:cNvPicPr/>
          <p:nvPr/>
        </p:nvPicPr>
        <p:blipFill>
          <a:blip r:embed="rId1"/>
          <a:stretch/>
        </p:blipFill>
        <p:spPr>
          <a:xfrm>
            <a:off x="1908000" y="0"/>
            <a:ext cx="5050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0720" y="147960"/>
            <a:ext cx="116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В его огромных глазах отражается все, вся земля и лужи на ней, и солнце, сверкающее в лужах, и души людские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то не понимал так ясно и тонко, как он, трагизм мелочей жизни, никто до него не умел так беспощадно правдиво нарисовать людям позорную и тоскливую картину их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вы делаете дело вашими небольшими рассказами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ассказах Чехова нет ничего такого,  чего не было бы в действ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160" y="1197000"/>
            <a:ext cx="66754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о произведение было напечатано в журнале «Осколки» в 1883 году в № 27 от 2 июля, с подзаголовком «Случай», за подписью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енький человек» Этим понятием в литературе обозначают персонаж, не наделённый героическими качествами, не имеющий каких-­то особенных отличий. «Маленький человек» - обычный, зауряд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сть» — не только и не столько продукт социальных отношений (так трактовала проблему литература XIX века), сколько ставшее уже неотъемлемой частью психики внутреннее самоощущение, некое закрепившееся за человеком душевное уродство. Против него, против желания быть «маленьким» и борется Чехов — и смехом в том чи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bscap014.jpg"/>
          <p:cNvPicPr/>
          <p:nvPr/>
        </p:nvPicPr>
        <p:blipFill>
          <a:blip r:embed="rId1"/>
          <a:stretch/>
        </p:blipFill>
        <p:spPr>
          <a:xfrm>
            <a:off x="1836720" y="351000"/>
            <a:ext cx="5759640" cy="91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000021.jpg"/>
          <p:cNvPicPr/>
          <p:nvPr/>
        </p:nvPicPr>
        <p:blipFill>
          <a:blip r:embed="rId2"/>
          <a:stretch/>
        </p:blipFill>
        <p:spPr>
          <a:xfrm>
            <a:off x="6804000" y="1413000"/>
            <a:ext cx="22320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8920" y="1483920"/>
            <a:ext cx="332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3_01_01[1]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3051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24000" y="4437000"/>
            <a:ext cx="82836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ды реакции: убит император Александр II, правительство всех преследовало. Люди боялись всего. Его величество чиновник занимает главное положение в обществе. Это эпоха разочарований, эпоха переоценки ценностей, эпоха поисков новых путей развития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7" descr="3690066"/>
          <p:cNvPicPr/>
          <p:nvPr/>
        </p:nvPicPr>
        <p:blipFill>
          <a:blip r:embed="rId2"/>
          <a:stretch/>
        </p:blipFill>
        <p:spPr>
          <a:xfrm>
            <a:off x="5292720" y="1413000"/>
            <a:ext cx="3459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248000" cy="244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20280"/>
            <a:ext cx="8353440" cy="67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у особенно удаётся коротенький рассказ с внешне незатейливым сюжетом, но с очень глубоким содержан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Куле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не просто описывал жи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жаждал переделать её, чтобы она стала умнее, человеч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И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ю коротко говорить о длинных вещ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раткость - сестра тала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писать - это искусство сокраща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человек станет лучше, когда вы покажете ему, каков он 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ленький рассказ о маленьком человеч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Эволюция образа главного героя  в рассказе А.П. Чехова «Смерть  чиновни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777\Desktop\открытый урок\41fff622.jpg"/>
          <p:cNvPicPr/>
          <p:nvPr/>
        </p:nvPicPr>
        <p:blipFill>
          <a:blip r:embed="rId1"/>
          <a:stretch/>
        </p:blipFill>
        <p:spPr>
          <a:xfrm>
            <a:off x="2556000" y="33577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76320">
            <a:solidFill>
              <a:srgbClr val="c0504d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41:43Z</dcterms:created>
  <dc:creator>Харисов Руслан</dc:creator>
  <dc:description/>
  <dc:language>en-US</dc:language>
  <cp:lastModifiedBy>777</cp:lastModifiedBy>
  <dcterms:modified xsi:type="dcterms:W3CDTF">2020-02-26T16:12:08Z</dcterms:modified>
  <cp:revision>78</cp:revision>
  <dc:subject/>
  <dc:title>Антон Павлович Чехов (1860 - 1904)</dc:title>
</cp:coreProperties>
</file>